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6F6-F9B1-42C9-ADA3-957B6DF7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BB2-3489-4AEA-B0E9-7EF4AB93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1FE-24E4-4309-91BD-E481AF5C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CDD-21A0-4CE0-BC2C-D4957B3A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CD3-C6FB-4A76-B007-B6EAFB0A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58F-79C7-46AC-8FDD-2C1151A6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650-242A-4816-9EEB-D0AD3BAC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625-C6C7-4FF7-BEDD-8F6A9AC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75C-2138-45E4-A895-71CFDB66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3F1-4F77-4439-985A-379C185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645-0799-4394-9056-C849AFE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36B-2CA2-45F0-BF38-E74A9B24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5A15-75D3-4F15-859A-2F576FE29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GO MEDICINA.png"/>
          <p:cNvPicPr/>
          <p:nvPr/>
        </p:nvPicPr>
        <p:blipFill>
          <a:blip r:embed="rId1"/>
          <a:stretch/>
        </p:blipFill>
        <p:spPr>
          <a:xfrm>
            <a:off x="142920" y="0"/>
            <a:ext cx="8688240" cy="235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24000" y="2780640"/>
            <a:ext cx="8501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6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 (Б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ја Д. Жи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-ова инв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239760" y="2276640"/>
          <a:ext cx="858024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276640"/>
                    <a:ext cx="858024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5"/>
          <p:cNvGraphicFramePr/>
          <p:nvPr/>
        </p:nvGraphicFramePr>
        <p:xfrm>
          <a:off x="324000" y="4221000"/>
          <a:ext cx="834372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221000"/>
                    <a:ext cx="83437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Box 8"/>
          <p:cNvSpPr/>
          <p:nvPr/>
        </p:nvSpPr>
        <p:spPr>
          <a:xfrm>
            <a:off x="3368160" y="5805360"/>
            <a:ext cx="240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х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ациклич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341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и распоред атома у молекулу одређене конституције и конфигурације који се остварује ротацијом атома или атомских група око простих в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ње конформација помоћу перспективних и Newman-ових форму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900000" y="4076640"/>
          <a:ext cx="799308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76640"/>
                    <a:ext cx="79930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Box 4"/>
          <p:cNvSpPr/>
          <p:nvPr/>
        </p:nvSpPr>
        <p:spPr>
          <a:xfrm>
            <a:off x="617760" y="58053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он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4149360" y="57326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69040" y="623736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е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45360" y="5657760"/>
            <a:ext cx="18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man-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јекц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3419640" y="1341360"/>
          <a:ext cx="268596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341360"/>
                    <a:ext cx="268596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4"/>
          <p:cNvGraphicFramePr/>
          <p:nvPr/>
        </p:nvGraphicFramePr>
        <p:xfrm>
          <a:off x="1547640" y="3357720"/>
          <a:ext cx="5256360" cy="22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357720"/>
                    <a:ext cx="52563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Box 6"/>
          <p:cNvSpPr/>
          <p:nvPr/>
        </p:nvSpPr>
        <p:spPr>
          <a:xfrm>
            <a:off x="404640" y="551664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липсна ко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301640" y="5516640"/>
            <a:ext cx="44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часта ко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(диедарски угао) угао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116000" y="1844640"/>
          <a:ext cx="324000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44640"/>
                    <a:ext cx="324000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4859280" y="2421000"/>
          <a:ext cx="24750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421000"/>
                    <a:ext cx="24750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Box 6"/>
          <p:cNvSpPr/>
          <p:nvPr/>
        </p:nvSpPr>
        <p:spPr>
          <a:xfrm>
            <a:off x="3415680" y="609300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нап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D:\konf.jpg"/>
          <p:cNvPicPr/>
          <p:nvPr/>
        </p:nvPicPr>
        <p:blipFill>
          <a:blip r:embed="rId1"/>
          <a:stretch/>
        </p:blipFill>
        <p:spPr>
          <a:xfrm>
            <a:off x="-900000" y="-316080"/>
            <a:ext cx="10512360" cy="679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3"/>
          <p:cNvGraphicFramePr/>
          <p:nvPr/>
        </p:nvGraphicFramePr>
        <p:xfrm>
          <a:off x="684360" y="5013360"/>
          <a:ext cx="825804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5013360"/>
                    <a:ext cx="82580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Box 7"/>
          <p:cNvSpPr/>
          <p:nvPr/>
        </p:nvSpPr>
        <p:spPr>
          <a:xfrm>
            <a:off x="2696040" y="549360"/>
            <a:ext cx="404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нап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651640" y="443700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угао (степе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бут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195560" y="342900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периплан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432320" y="371628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е (Sin-клинал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416320" y="595008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клинал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673600" y="595008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-периплан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555920" y="63723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на (+)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036680" y="342900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на (+)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 (-)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1619280" y="1628640"/>
          <a:ext cx="580068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0068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1403280" y="4221000"/>
          <a:ext cx="6205680" cy="17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221000"/>
                    <a:ext cx="620568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D:\konfr.jpg"/>
          <p:cNvPicPr/>
          <p:nvPr/>
        </p:nvPicPr>
        <p:blipFill>
          <a:blip r:embed="rId1"/>
          <a:stretch/>
        </p:blipFill>
        <p:spPr>
          <a:xfrm>
            <a:off x="539640" y="1268280"/>
            <a:ext cx="8280360" cy="435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1"/>
          <p:cNvGraphicFramePr/>
          <p:nvPr/>
        </p:nvGraphicFramePr>
        <p:xfrm>
          <a:off x="1979640" y="5732640"/>
          <a:ext cx="950760" cy="88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5732640"/>
                    <a:ext cx="95076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3"/>
          <p:cNvGraphicFramePr/>
          <p:nvPr/>
        </p:nvGraphicFramePr>
        <p:xfrm>
          <a:off x="3132000" y="5805360"/>
          <a:ext cx="1008360" cy="83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5805360"/>
                    <a:ext cx="10083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4"/>
          <p:cNvGraphicFramePr/>
          <p:nvPr/>
        </p:nvGraphicFramePr>
        <p:xfrm>
          <a:off x="826920" y="5732640"/>
          <a:ext cx="860760" cy="83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5732640"/>
                    <a:ext cx="8607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5"/>
          <p:cNvGraphicFramePr/>
          <p:nvPr/>
        </p:nvGraphicFramePr>
        <p:xfrm>
          <a:off x="8101080" y="5805360"/>
          <a:ext cx="860400" cy="831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01080" y="5805360"/>
                    <a:ext cx="8604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6"/>
          <p:cNvGraphicFramePr/>
          <p:nvPr/>
        </p:nvGraphicFramePr>
        <p:xfrm>
          <a:off x="4356000" y="5805360"/>
          <a:ext cx="779400" cy="916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56000" y="5805360"/>
                    <a:ext cx="7794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7"/>
          <p:cNvGraphicFramePr/>
          <p:nvPr/>
        </p:nvGraphicFramePr>
        <p:xfrm>
          <a:off x="5580000" y="5805360"/>
          <a:ext cx="860400" cy="868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80000" y="5805360"/>
                    <a:ext cx="8604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6804000" y="5805360"/>
          <a:ext cx="949320" cy="88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04000" y="5805360"/>
                    <a:ext cx="9493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19"/>
          <p:cNvSpPr/>
          <p:nvPr/>
        </p:nvSpPr>
        <p:spPr>
          <a:xfrm>
            <a:off x="250920" y="33336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а потенцијалне енерги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а у функцији торзионог угла при ротацији око С2-С3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она ана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засићених молекула отвореног низа ротација око простих ковалентних веза није потпуно слободна, али због малих разлика у енергији појединих конформација ротација постоји и релативно лако се врши. Разлог за отежану ротацију није још увек сасвим јасан, али се могу помену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als</a:t>
            </a: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tzer</a:t>
            </a: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 напон које треба узети у обзир у конформационој анализи засићених угљоводоника отвореног ни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једноставнијих незасиће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ростија једињења са незасићеним везама код којих конформациона анализа долази у обзир јесу ацеталдехид и пропен зато што при ротацији око просте C-C везе између тетраедарског угљ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вог атома и тригоналног угљениковог атома молекули ових једињења могу заузимати разне конформа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једноставнијих незасиће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мерења су показала да се молекули ацеталдехида и пропена налазе углавном у конформацији у којој је двогуба веза еклипсна са водоником на суседном засићеном угљениковом ат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1403280" y="4292640"/>
          <a:ext cx="55450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292640"/>
                    <a:ext cx="55450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4"/>
          <p:cNvSpPr/>
          <p:nvPr/>
        </p:nvSpPr>
        <p:spPr>
          <a:xfrm>
            <a:off x="1198080" y="60213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алдех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642120" y="60930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04240" y="602136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оналдех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син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индукциј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било коју реакцију синтезе при којој се ствара нови асиметрични центар у једињењу које већ садржи један или више асиметричних угљеникових атома, под условом да се један диастереоизомер добија у вишку (адициј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gnard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 реагенса на кетоне са хирални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ом у суседству карбонилне групе, цијанхидринска синтеза са неким                        моносахариди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простијих незасиће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о пропионалдехиду и код неких других једињења са незасићеним везама као што су метил-формијат, мравља киселина и метил-винил-етар, молекули се углавном налазе у sin-конформ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900000" y="4221000"/>
          <a:ext cx="775836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221000"/>
                    <a:ext cx="775836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Box 4"/>
          <p:cNvSpPr/>
          <p:nvPr/>
        </p:nvSpPr>
        <p:spPr>
          <a:xfrm>
            <a:off x="614520" y="58770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формиј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579120" y="587700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ављ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317280" y="58770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винил-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селективне 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при којима се из одређеног полазног производа један диастереоизомер дате структуре ствара брже па самим тим и у већој количини него остали диастереоизомери исте структуре називају се стереоселективне рак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синтеза у ужем смисл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оптички активног једињења из симетричног молекула уз помоћ хиралних реагенаса или катализатора (редукције карбонилних једињења до алкохола, хидроксилација и епоксидација алкена, адиција органометала на карбонилна једињења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 чистоћа (ее) представља виша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г од енантиомера изражен 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и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0920" y="1557360"/>
            <a:ext cx="85690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00·(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00·(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лски удео (+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лски удео (-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n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+) + n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n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+) + n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7"/>
          <p:cNvSpPr/>
          <p:nvPr/>
        </p:nvSpPr>
        <p:spPr>
          <a:xfrm>
            <a:off x="1187280" y="4581360"/>
            <a:ext cx="16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3"/>
          <p:cNvSpPr/>
          <p:nvPr/>
        </p:nvSpPr>
        <p:spPr>
          <a:xfrm>
            <a:off x="1116000" y="587700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3311640" y="479736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+) – број молова (+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-) – број молова (-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инду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324000" y="1484280"/>
          <a:ext cx="640872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640872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Box 4"/>
          <p:cNvSpPr/>
          <p:nvPr/>
        </p:nvSpPr>
        <p:spPr>
          <a:xfrm>
            <a:off x="468360" y="5229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(+)-арабин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800760" y="184464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манонит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658200" y="522936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глуконит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диција Grignard-овог реагенса на кетоне са хиралним C атомом у суседству карбонилне гру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528480" y="2793960"/>
          <a:ext cx="856296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793960"/>
                    <a:ext cx="856296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Box 4"/>
          <p:cNvSpPr/>
          <p:nvPr/>
        </p:nvSpPr>
        <p:spPr>
          <a:xfrm>
            <a:off x="3847320" y="530064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синтеза у ужем смисл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бор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900000" y="1700280"/>
          <a:ext cx="6912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6912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4"/>
          <p:cNvSpPr/>
          <p:nvPr/>
        </p:nvSpPr>
        <p:spPr>
          <a:xfrm>
            <a:off x="1346040" y="61657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емска сме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-ова инв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инверзија употребљава се за сваку појединачну реакцију која се врши са променом конфигура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важан тип реакција које се врше увек са потпу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lden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м инверзијом конфигурације на симетричном угљениковом атому називају се бимолекулске нуклеофилне супституције и означавају се 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1:11:47Z</dcterms:created>
  <dc:creator>Milos Nikolic</dc:creator>
  <dc:description/>
  <dc:language>en-US</dc:language>
  <cp:lastModifiedBy>Corporate Edition</cp:lastModifiedBy>
  <dcterms:modified xsi:type="dcterms:W3CDTF">2017-09-04T12:19:01Z</dcterms:modified>
  <cp:revision>11</cp:revision>
  <dc:subject/>
  <dc:title>Slide 1</dc:title>
</cp:coreProperties>
</file>